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E03-1430-4C87-B719-F57D256C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828-5E43-4D9E-9F6E-C82541B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D28-0A9E-4865-8391-734C8416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BF0-2201-4411-89F8-835C33B9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666C-E373-474A-9519-FAF4A101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AB5-DAF8-4AAA-9DAD-90B4A3D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423-5891-47AF-8B1F-83461B0C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B09E-B841-4977-BE90-6AAA8220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407-A53F-4FC6-8E7D-F92A932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80F0-C0FA-40DB-8AD4-A22417A5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C521-236E-4359-9B36-D74552B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15D-3355-4477-BDCC-1D0AD73E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AFA-406D-4663-94E1-BA9B90F0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EF2-9413-4FBE-A3F0-7866D72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12C-9E7F-42EB-A036-BE771149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4722-EBA0-437D-A8B3-C18DA6D9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25F-4A68-4D28-81C3-F162B6DA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B1D-1A03-41B2-B114-76FABBA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315-98A0-4179-86F1-29EC3D3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A00-788F-4D93-B4C9-ECC9914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890-CB7B-42E9-98D5-ADD074A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D0-5087-4DCD-9B11-55F2197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170-05D2-42B6-85A4-74F1E67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A49-39C9-49C4-907D-3ABCC57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1383-A500-4294-9820-9853889CC075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5484-354E-4602-A4C5-6A82E10730FD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141720"/>
            <a:ext cx="710568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r-TR" sz="5400" spc="-1" strike="noStrike" u="sng">
                <a:solidFill>
                  <a:srgbClr val="0daeff"/>
                </a:solidFill>
                <a:uFillTx/>
                <a:latin typeface="Albertus Extra Bold"/>
              </a:rPr>
              <a:t>YAZIM KURALLAR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r-TR" sz="4000" spc="-1" strike="noStrike" u="sng">
                <a:solidFill>
                  <a:srgbClr val="ffff00"/>
                </a:solidFill>
                <a:uFillTx/>
                <a:latin typeface="Albertus Extra Bold"/>
              </a:rPr>
              <a:t>TDK’nin yaptığı son değişiklikler (2012) dikkate alınarak hazırlanmıştır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086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r-TR" sz="8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tr-TR" sz="8800" spc="-1" strike="noStrike">
                <a:solidFill>
                  <a:srgbClr val="ff0000"/>
                </a:solidFill>
                <a:latin typeface="Tahoma"/>
              </a:rPr>
              <a:t>TÜRKÇE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3 Resim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163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70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Yer, millet, ve kişi adlarıyla kurulan birleşik kelimelerde, özel adlar büyük harfle başlar: </a:t>
            </a:r>
            <a:br>
              <a:rPr sz="3200"/>
            </a:b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ntep fıstığ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ndistan cevizi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an kedisi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enizli horozu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rüksel lahanas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renk gömleği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ndistan cevizi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İ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ngiliz anahtar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apon gülü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araş dondurmas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an kedisi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DİKK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Para birimleri büyük harfle başlamaz: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a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vro,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d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nar,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d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olar,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l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ra,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uruş,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l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ret v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Özel adlar yerine kullanılan 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"o"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 zamiri cümle iç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büyük harfle yazıl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Yarınki maça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 gelmesin, anlaşıldı mı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SAYILARI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964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Sayılar, ticari işlemler dışında ayrı yazılır.Sayılara getirilen ekler ünsüz uyumuna uyar ve kesmeyle ayrılır. Büyük sayıların yazımında sıfırlı kısımlar yazıyla gösterilebil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aha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on yed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yaşındayı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Dün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üç yüz elli altı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soru çözdü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ınava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bir milyon yedi yüz altmış b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 öğrenci gir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974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3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17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nc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23’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üncü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1.55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’te,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’y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ilyo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8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ilyar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20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rily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Tahoma"/>
              </a:rPr>
              <a:t>UYARI: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Çek, senet, fatura, dekont vb. ticari evraklarda sayılar bitişik yazılır.     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altmışbeşmilyon gib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Buna karşılık saat, para tutarı, ölçü, istatistik verilere ilişkin sayılarda rakam kullanılır:</a:t>
            </a:r>
            <a:r>
              <a:rPr b="0" lang="tr-TR" sz="2000" spc="-1" strike="noStrike">
                <a:solidFill>
                  <a:srgbClr val="0daeff"/>
                </a:solidFill>
                <a:latin typeface="Tahoma"/>
              </a:rPr>
              <a:t> 17.30’da, 11.00’de, 1.500.000 lira, 25 kilogram, 150 kilometre, 15 metre kumaş, 1.250.000 kişi v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Saatler ve dakikalar metin içinde yazı veya rakamla yazılabilir: </a:t>
            </a:r>
            <a:r>
              <a:rPr b="0" lang="tr-TR" sz="2000" spc="-1" strike="noStrike">
                <a:solidFill>
                  <a:srgbClr val="0daeff"/>
                </a:solidFill>
                <a:latin typeface="Tahoma"/>
              </a:rPr>
              <a:t> saat dokuzu beş geçe, yediye çeyrek kala, saat sekizi on dakika üç saniye geç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Oyunlar bitişik yazılır:</a:t>
            </a:r>
            <a:r>
              <a:rPr b="0" lang="tr-TR" sz="2000" spc="-1" strike="noStrike">
                <a:solidFill>
                  <a:srgbClr val="0daeff"/>
                </a:solidFill>
                <a:latin typeface="Tahoma"/>
              </a:rPr>
              <a:t> altmışaltı, ellibir, yirmibir, yüzbir v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Üleştirme sayıları rakamla değil yazıyla yazılır: </a:t>
            </a:r>
            <a:r>
              <a:rPr b="0" lang="tr-TR" sz="2000" spc="-1" strike="noStrike">
                <a:solidFill>
                  <a:srgbClr val="0daeff"/>
                </a:solidFill>
                <a:latin typeface="Tahoma"/>
              </a:rPr>
              <a:t>2’şer değil ikişer, 9’ar değil dokuzar, 100’er değil yüzer v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KISALTMALARI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ısaltmalara getirilen ekler okunuşa göre getirilir ve kesmeyle ayrılır.Harfler arasında nokta kullanılmaz.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DOĞRU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tr-TR" sz="2000" spc="-1" strike="noStrike" u="sng">
                <a:solidFill>
                  <a:srgbClr val="ff3300"/>
                </a:solidFill>
                <a:uFillTx/>
                <a:latin typeface="Tahoma"/>
              </a:rPr>
              <a:t>YANLI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ni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de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RT’y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RT’n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nu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da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DO’y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İDO’n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nü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den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İTÜ’y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İTÜ’n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d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MEB’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EB’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ni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de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BD’ye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ABD’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.K.T.C., T.B.M.M., T.H.Y., İ.Ö.O. </a:t>
            </a:r>
            <a:r>
              <a:rPr b="0" lang="tr-TR" sz="2800" spc="-1" strike="noStrike">
                <a:solidFill>
                  <a:srgbClr val="c00000"/>
                </a:solidFill>
                <a:latin typeface="Tahoma"/>
              </a:rPr>
              <a:t>(Yanlış kullanı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KTC, TBMM, THY, PTT, İO 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(Doğru kullanı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DİKKAT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Gelenekleşmiş olan </a:t>
            </a:r>
            <a:r>
              <a:rPr b="0" i="1" lang="tr-TR" sz="2800" spc="-1" strike="noStrike">
                <a:solidFill>
                  <a:srgbClr val="ff0000"/>
                </a:solidFill>
                <a:latin typeface="Tahoma"/>
              </a:rPr>
              <a:t>T.C.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(Türkiye Cumhuriyeti) 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ahoma"/>
              </a:rPr>
              <a:t>T.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(Türkçe) 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kelimelerinin kısaltmalarında nokta kullanıl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ısaltılan kelime veya kelime grubu;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özel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ad, unvan veya rüt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ise ilk harf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üyük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;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cins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isim ise ilk harf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küçük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olu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lm. (Almanca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İ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ng. (İngilizce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ocatepe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ah. (Kocate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Mahallesi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üniz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ok. (Güniz Sokağı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rof. (Profesör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r. (Doktor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v. (Avukat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lb. (Albay)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en. (General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f. (sıfat),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az. (hazırlayan),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ev. (çeviren),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d. (edebiyat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f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iz. (fizik),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² (metrekare),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c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m² (santimetrekare)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üçük harflerle yapılan kısaltmalara getirilen eklerde kelimen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okunuşu esas alınır: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cm’yi, kg’dan, mm’den, kr.un, 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İst.da, Alm.yı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İng.ye, Dr.un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Sonunda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nokta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bulunan kısaltmalarla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üs işaretli kısaltmalar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gelen ekler 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kesmeyle ayrılmaz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. Bu tür kısaltmalarda ek noktad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ve üs işaretinden sonra, kelimenin veya üs işaretinin okunuşu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uygun olarak yazılır: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vb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.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leri, Alm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.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dan, İng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.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yi; cm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³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(santimetreküpe), m</a:t>
            </a: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²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ye (metrekareye), 6</a:t>
            </a:r>
            <a:r>
              <a:rPr b="1" lang="tr-TR" sz="2400" spc="-1" strike="noStrike" baseline="30000">
                <a:solidFill>
                  <a:srgbClr val="ff33cc"/>
                </a:solidFill>
                <a:latin typeface="Tahoma"/>
              </a:rPr>
              <a:t>4</a:t>
            </a:r>
            <a:r>
              <a:rPr b="0" lang="tr-TR" sz="2400" spc="-1" strike="noStrike">
                <a:solidFill>
                  <a:srgbClr val="00b0f0"/>
                </a:solidFill>
                <a:latin typeface="Tahoma"/>
              </a:rPr>
              <a:t>ten (altı üssü dörtte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EKEYLEM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40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Ekeylem sözcüklere bitişik de ayrı da yazılabil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hastay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ış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hasta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mi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elecek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elece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orgun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u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orgu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akıyor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uş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akıyo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mi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ider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s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ide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lül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s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lül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oğu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ğild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oğu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ğil 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ilmiyo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ğildi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ilmiyo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ği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DE, DA”NIN 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Bağlaç olan “de, da” her zaman ayrı yazılır ve “te, ta” şekli yoktu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Hal eki olan “-de, -da” her zaman bitişik yazılır ve “-te, -ta” şekli vard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rın bize se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gelirs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uy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inan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orular hiç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zor değil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emek ayrılma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varmış kader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u akşam bizim ev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kalır, ders çalışırı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 ev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e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ınavımız vard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şamüstü sokak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bir gürültü ol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eni giriş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bekliyor olacağı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32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UYARI 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yrı yazılan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a, de hiçbir zaman ta, te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şeklinde yazıl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UYARI 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Ya söz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üyle birlikte kullanılan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a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mutlaka ayrı yazılır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  <a:ea typeface="Times New Roman"/>
              </a:rPr>
              <a:t>(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ya d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UYARI 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Da, de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ağlacını kendisinden önceki kelimeden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kesme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ile ayırmak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yanlış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ır. Bu bağlacı tamamen ayrı yazmak gerek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  <a:ea typeface="Times New Roman"/>
              </a:rPr>
              <a:t>Ayşe de geldi. (doğr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Ayşe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'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de geldi.   (yanlış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Kİ”NİN 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86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Bağlaç olan “ki” her zaman ayrı yazıl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Sıfat yapım eki ve ilgi zamiri olan “-ki” bitişik yazıl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uydum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unutmuşsun, gözlerimin rengi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lül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en sevdiğim aydır ben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şam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maça sınıfça gideceği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ahçede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güllere gözü gibi bakıyor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ugün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ü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toplantı erken bit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enim kitabım evde kalmış, senin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burada mı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akırköy’ün sahili Kadıköy’ün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nden daha güz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(SOMB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Ç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M) kuralı kalıplaşmıştır  ve hep bitişikt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sanki              oysaki         mademki        bel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halbuki           çünki(kü)     meğerki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( 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ve 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boşt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MI, Mİ”N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endinden önceki sözcüğe her zaman ayrı yazılır; fakat kendinden sonra gelen eklere bitişik yazılı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şam bize uğrayaca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ısı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 beni arayan se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iydi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kardeşi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iyd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uraları daha önce görmüş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üydünü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z geld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i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ylalara çıkardı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irden hepimize bağırmaya başlaması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ünü gününe çalıştınız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 sınavı kazanırsını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Çocuğun uzu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u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uzun saçları vard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evsim yaz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ı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güz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ü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anlayamadı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UYAR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Birleşik fiillerde mi soru eki iki kelimenin arasına da gelebilir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Vaz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ı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geçtin? (aslında fiil vazgeçmek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Century Gothic"/>
              </a:rPr>
              <a:t>İKİLEME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İkilemeler daima ayrı yazılı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aş baş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l 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üz yüz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n y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ç içe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peş peş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rım yamala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oğru dürü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ere serp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şe kal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üle gül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te k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t ard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a sı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oy bo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z bu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karman çorma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açma sa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adım adım        ağır ağır          akın akın       allak bulla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   </a:t>
            </a:r>
            <a:r>
              <a:rPr b="0" lang="tr-TR" sz="2000" spc="-1" strike="noStrike">
                <a:solidFill>
                  <a:srgbClr val="0dae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aval aval (bakmak)  çeşit çeşit, derin derin    gide gide      güzel güzel       karış karış        kös kös (dinlemek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    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kucak kucak    şıpır şıpır     tak tak (vurmak)    takım takım tıkır tıkır       yavaş yavaş     kırk elli (yıl)  üç beş (kişi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89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Cümleler , dize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ın sınavımız  v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Ö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ğretmen bize : “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l az önce çaldı.” de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n çok şu dersleri sevmem: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n,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sim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kşam iniyor yine şehirle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zne boyandı gökyüz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Hitap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nım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nneciğim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vgil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sri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yı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anım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ğerl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rkadaşl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m ile yapılmış ikilemeler de ayrı yazılır: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at mat, çocuk mocuk, dolap molap, kapı mapı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kitap mitap, eşek meşek, ot mot v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İsim durum ekleri ve iyelik ekiyle yapı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ikilemeler de ayrı ayrı yazılır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baş başa, diz dize, el ele, göz göze, iç iç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omuz omuza, yan yana; baştan baş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daldan dala, elden ele, günden güne,içten iç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yıldan yıla; başa baş, bire bir (ölçü), dişe diş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göze göz, teke tek, ardı ardına, boşu boşu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günü gününe, peşi peşine, ucu ucuna v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DİKKAT EDELİ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Ünlüyle başlayan ek aldıklarında ikilemelerde ikinci kelimenin dar ünlüsü düşmez: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ağız ağıza, burun buruna, koyun koyuna (yatmak), omuz omuza, devirden devire, nesilden nesile, oğuldan oğula, şehirden şehire vb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İçeri, dışarı, ileri, şura, bura, ora, yukarı, aşağı gibi sözler ek aldıklarında sonlarında bulunan ünlüler düşmez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içerde değil içeride, ilerde değil ileride, şurda değil şurada, burda değil burada, orda değil orada, yukarda değil yukarıda, aşağda değil aşağıda, dışardan değil dışarıdan v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PEKİŞTİRME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359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Pekiştirilmiş sözcükler bitişik yazılır.</a:t>
            </a:r>
            <a:r>
              <a:rPr b="0" lang="tr-TR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smavi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payalnız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ırılsıkl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apsarı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apasağla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çırılçıpl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emyeşi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çepeçevr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karmakarışı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ıpıssı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güpegündü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armadağını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mdü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pedü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armadu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ımsıkı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tıpatıp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paramparç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ipsivri       kupkuru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paçık        apak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üsbütün    gömgö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emyeşi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BİLEŞİK EYLEMLERİN YAZ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502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Yardımcı eylemle oluşturulurken ses olayına uğrayan eylemler, kurallı bileşik eylemler, anlamca kaynaşmış bazı eylemler bitişik yazıl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kaybol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gelebil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başvu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hisset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çıkıver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vazgeç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zehrol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düşeyaz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varsay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affet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bakakal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öngö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sabreyle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süregel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elver-</a:t>
            </a:r>
            <a:r>
              <a:rPr b="0" lang="tr-TR" sz="2400" spc="-1" strike="noStrike">
                <a:solidFill>
                  <a:srgbClr val="0dae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UYAR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Bazı alıntı kelimelerde yumuşama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(pçtk/bcdgğ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olmaz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ahlak / ahla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ın, cumhuriyet / cumhuriye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evrak / evra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ı, hukuk / huku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u, ittifak / ittifak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sepet / sepe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i, tank / tan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ı v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560" y="259920"/>
            <a:ext cx="878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YUVAR – KÜ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Yuvar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 ve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üre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 sözleriyle kurulan birleşik kelimeler ayrı yazılır: 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göz yuvarı, hava yuvarı, ısı yuvarı, ışık yuvarı, renk yuvarı, yer yuvarı; hava küre, ışık küre,     su küre, taş küre, yarı küre, yarım kü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lang="tr-TR" sz="2800" spc="-1" strike="noStrike">
                <a:solidFill>
                  <a:srgbClr val="ff33cc"/>
                </a:solidFill>
                <a:latin typeface="Tahoma"/>
              </a:rPr>
              <a:t>yerküre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 istisnadı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perver,  perest,  zade ,  name, oto,  tele,  hane  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...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bancı eklerle kurulan kelimeler  bitişik  yazılır:</a:t>
            </a:r>
            <a:br>
              <a:rPr sz="2800"/>
            </a:b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misafirperver     vatanperver</a:t>
            </a:r>
            <a:br>
              <a:rPr sz="2800"/>
            </a:b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seyahatname    otobiyografi</a:t>
            </a:r>
            <a:br>
              <a:rPr sz="2800"/>
            </a:b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amcazade         telekart</a:t>
            </a:r>
            <a:br>
              <a:rPr sz="2800"/>
            </a:b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kanunname      dersh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675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Nesne, eşya, yol ve alet adlarından biriyle kurulan birleşik kelimeler ayrı ayrı yazılır</a:t>
            </a: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56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kireç taşı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lüle taşı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arap sabunu, el kitabı,      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alt geçit, tüp geçit, üst geçit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çekme demir, çekme kat, 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dolma kalem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dönme dolap, kesme kaya, 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toplu iğne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vurmalı çalgılar, vurmalı sazlar, yapma çiçek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tuz ruhu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,  çevre yolu, deniz yolu, 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hava yo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BAŞ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Tahoma"/>
                <a:ea typeface="Tahoma"/>
              </a:rPr>
              <a:t>Baş</a:t>
            </a:r>
            <a:r>
              <a:rPr b="1" lang="tr-TR" sz="2800" spc="-1" strike="noStrike">
                <a:solidFill>
                  <a:srgbClr val="ff0000"/>
                </a:solidFill>
                <a:latin typeface="Tahoma"/>
                <a:ea typeface="Tahoma"/>
              </a:rPr>
              <a:t> sözüyle oluşturulan sıfat tamlamaları </a:t>
            </a:r>
            <a:r>
              <a:rPr b="1" lang="tr-TR" sz="2800" spc="-1" strike="noStrike">
                <a:solidFill>
                  <a:srgbClr val="ff3300"/>
                </a:solidFill>
                <a:latin typeface="Tahoma"/>
                <a:ea typeface="Tahoma"/>
              </a:rPr>
              <a:t>hep bitişik yazılır: 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  <a:ea typeface="Tahoma"/>
              </a:rPr>
              <a:t>başağırlık, başbakan, başçavuş, başeser, başfiyat, başhekim, başhemşire, başkahraman, başkarakter, başkent, başkomutan, başköşe, başmüfettiş, başöğretmen, başparmak, başpehlivan, başrol, başsavcı, başya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Tahoma"/>
                <a:ea typeface="Tahoma"/>
              </a:rPr>
              <a:t>Bir topluluğun yöneticisi anlamındaki </a:t>
            </a:r>
            <a:r>
              <a:rPr b="1" lang="tr-TR" sz="2800" spc="-1" strike="noStrike">
                <a:solidFill>
                  <a:srgbClr val="ff0000"/>
                </a:solidFill>
                <a:latin typeface="Tahoma"/>
                <a:ea typeface="Tahoma"/>
              </a:rPr>
              <a:t>başı</a:t>
            </a:r>
            <a:r>
              <a:rPr b="1" lang="tr-TR" sz="2800" spc="-1" strike="noStrike">
                <a:solidFill>
                  <a:srgbClr val="ffff00"/>
                </a:solidFill>
                <a:latin typeface="Tahoma"/>
                <a:ea typeface="Tahoma"/>
              </a:rPr>
              <a:t> sözüyle oluşturulan belirtisiz isim tamlamaları: 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  <a:ea typeface="Tahoma"/>
              </a:rPr>
              <a:t>aşçıbaşı, binbaşı, çarkçıbaşı, çeribaşı, elebaşı, mehterbaşı, onbaşı, ustabaşı, yüzbaş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24000" y="-360"/>
            <a:ext cx="8496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Tahoma"/>
              </a:rPr>
              <a:t>Oyun adları: </a:t>
            </a:r>
            <a:r>
              <a:rPr b="0" lang="tr-TR" sz="2800" spc="-1" strike="noStrike">
                <a:solidFill>
                  <a:srgbClr val="0daeff"/>
                </a:solidFill>
                <a:latin typeface="Tahoma"/>
              </a:rPr>
              <a:t>beştaş, dokuztaş, üçtaş, ellibi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Tahoma"/>
              </a:rPr>
              <a:t>Gök cisimlerinin adları</a:t>
            </a: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Altıkardeş (yıldız kümesi), Arıkovanı (yıldız kümesi), Büyükayı (yıldız kümesi), Demirkazık (yıldız), </a:t>
            </a: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Küçükayı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(yıldız kümesi), Kervankıran (yıldız), </a:t>
            </a: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Samanyolu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(yıldız kümesi), Yedikardeş (yıldız kümes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Tahoma"/>
              </a:rPr>
              <a:t>Renk adları: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klaçiçeği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balköpüğü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camgöbeği, devetüyü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fildişi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gülkurusu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avuniçi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narçiçeği, ördekbaşı, ördekgagas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avşanağzı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avşankanı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turnagözü, vapurduman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vişneçürüğü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yavruağzı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3640" y="260280"/>
            <a:ext cx="8569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Ocak, yurt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sözcükleriyle kurulan birleşik sözcükler ayrı yazılır:  </a:t>
            </a:r>
            <a:br>
              <a:rPr sz="3200"/>
            </a:br>
            <a:r>
              <a:rPr b="0" lang="tr-TR" sz="3200" spc="-1" strike="noStrike">
                <a:solidFill>
                  <a:srgbClr val="0daeff"/>
                </a:solidFill>
                <a:latin typeface="Tahoma"/>
              </a:rPr>
              <a:t>yetiştirme yurdu, baba ocağ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Ev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kelimesiyle kurulan birleşik kelimeler bitişik yazılır: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aşevi, bakımevi, basımevi, doğumevi, gözlemevi, huzurevi, kahveevi, konukevi, orduevi, öğretmenevi, polisevi, yayınevi v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08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r-TR" sz="4800" spc="-1" strike="noStrike">
                <a:solidFill>
                  <a:srgbClr val="ffff00"/>
                </a:solidFill>
                <a:latin typeface="Tahoma"/>
              </a:rPr>
              <a:t>HER</a:t>
            </a:r>
            <a:br>
              <a:rPr sz="4800"/>
            </a:br>
            <a:br>
              <a:rPr sz="2000"/>
            </a:br>
            <a:r>
              <a:rPr b="1" lang="tr-TR" sz="2000" spc="-1" strike="noStrike">
                <a:solidFill>
                  <a:srgbClr val="00b050"/>
                </a:solidFill>
                <a:latin typeface="Tahoma"/>
              </a:rPr>
              <a:t>BİTİŞİK YAZILANLAR</a:t>
            </a:r>
            <a:br>
              <a:rPr sz="2000"/>
            </a:br>
            <a:br>
              <a:rPr sz="2000"/>
            </a:br>
            <a:r>
              <a:rPr b="1" lang="tr-TR" sz="2000" spc="-1" strike="noStrike">
                <a:solidFill>
                  <a:srgbClr val="eaeaea"/>
                </a:solidFill>
                <a:latin typeface="Tahoma"/>
              </a:rPr>
              <a:t>herhalde (belki)           herhangi </a:t>
            </a:r>
            <a:br>
              <a:rPr sz="2000"/>
            </a:br>
            <a:r>
              <a:rPr b="1" lang="tr-TR" sz="2000" spc="-1" strike="noStrike">
                <a:solidFill>
                  <a:srgbClr val="eaeaea"/>
                </a:solidFill>
                <a:latin typeface="Tahoma"/>
              </a:rPr>
              <a:t>herhangi bir                  herhangi biri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9280" y="1844280"/>
            <a:ext cx="864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b050"/>
                </a:solidFill>
                <a:latin typeface="Tahoma"/>
              </a:rPr>
              <a:t>AYRI YAZILANLAR</a:t>
            </a:r>
            <a:br>
              <a:rPr sz="2400"/>
            </a:br>
            <a:br>
              <a:rPr sz="24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bir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biri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daim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dem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dem taze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gün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halde (mutlaka)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hâlükârda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şey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zam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Özel Ad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İnsan, hayvan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şat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r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ntekin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allim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c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aba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Kitap, dergi, gazete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kuşu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ban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F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nal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riyet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lim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knik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Millet, dil, din, mezhep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kler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ngilizce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slamiyet, </a:t>
            </a:r>
            <a:r>
              <a:rPr b="0" lang="tr-TR" sz="2400" spc="-1" strike="noStrike">
                <a:solidFill>
                  <a:srgbClr val="c000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ristiyanlık, </a:t>
            </a:r>
            <a:r>
              <a:rPr b="0" lang="tr-TR" sz="2400" spc="-1" strike="noStrike">
                <a:solidFill>
                  <a:srgbClr val="c000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nefil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Devlet, gezegen, yıldız adlar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rk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mhuriyet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rs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nüs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l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ahoma"/>
              </a:rPr>
              <a:t>UYAR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Cümle içinde özel adın yerine kullanılan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makam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veya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unvan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sözleri büyük harfle başlar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zak Doğu’dan gelen heyeti </a:t>
            </a:r>
            <a:r>
              <a:rPr b="0" lang="tr-TR" sz="2400" spc="-1" strike="noStrike">
                <a:solidFill>
                  <a:srgbClr val="c00000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i dün kabul et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Century Gothic"/>
              </a:rPr>
              <a:t>HİÇ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hiçbir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00b0f0"/>
                </a:solidFill>
                <a:latin typeface="Tahoma"/>
              </a:rPr>
              <a:t>hiç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kim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00b0f0"/>
                </a:solidFill>
                <a:latin typeface="Tahoma"/>
              </a:rPr>
              <a:t>hiç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yok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00b0f0"/>
                </a:solidFill>
                <a:latin typeface="Tahoma"/>
              </a:rPr>
              <a:t>hiç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mi hi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00b0f0"/>
                </a:solidFill>
                <a:latin typeface="Tahoma"/>
              </a:rPr>
              <a:t>hiç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değil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Century Gothic"/>
              </a:rPr>
              <a:t>Bİ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takım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(blg. sft.)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takım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sayı sf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ebir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(etkili)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e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bir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(görüş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denbire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gü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birine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 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ş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dirbir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 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az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çok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a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b0f0"/>
                </a:solidFill>
                <a:latin typeface="Tahoma"/>
              </a:rPr>
              <a:t>birkaç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kısı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bir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 t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ahoma"/>
              </a:rPr>
              <a:t>ŞE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280" y="1484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ŞEY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sözcüğü daima </a:t>
            </a:r>
            <a:r>
              <a:rPr b="0" lang="tr-TR" sz="3200" spc="-1" strike="noStrike">
                <a:solidFill>
                  <a:srgbClr val="ff33cc"/>
                </a:solidFill>
                <a:latin typeface="Tahoma"/>
              </a:rPr>
              <a:t>ayrı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zılı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"birşey", "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herşey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" yazımı </a:t>
            </a: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yanlış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"bir şey", "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her şey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" yazımı </a:t>
            </a: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doğru.</a:t>
            </a:r>
            <a:br>
              <a:rPr sz="3200"/>
            </a:br>
            <a:br>
              <a:rPr sz="1600"/>
            </a:br>
            <a:r>
              <a:rPr b="0" lang="tr-TR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ahoma"/>
              </a:rPr>
              <a:t>BUGÜN  -  BU GÜ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çinde  bulunduğumuz  gün bitişik; </a:t>
            </a:r>
            <a:r>
              <a:rPr b="0" lang="tr-TR" sz="3200" spc="-1" strike="noStrike">
                <a:solidFill>
                  <a:srgbClr val="00b050"/>
                </a:solidFill>
                <a:latin typeface="Tahoma"/>
              </a:rPr>
              <a:t>belirli  bir  tarihi  göstere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“bu  gün” sözcüğü  ayrı  yazılır.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00000"/>
                </a:solidFill>
                <a:latin typeface="Tahoma"/>
              </a:rPr>
              <a:t>Bugü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okula  gitmemiş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ün  yaptıklarından  </a:t>
            </a:r>
            <a:r>
              <a:rPr b="0" lang="tr-TR" sz="3200" spc="-1" strike="noStrike">
                <a:solidFill>
                  <a:srgbClr val="c00000"/>
                </a:solidFill>
                <a:latin typeface="Tahoma"/>
              </a:rPr>
              <a:t>bugün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vazgeçerse   kötü  ol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rtuluş  savaşının  başlamış  olduğu  </a:t>
            </a:r>
            <a:r>
              <a:rPr b="0" lang="tr-TR" sz="3200" spc="-1" strike="noStrike">
                <a:solidFill>
                  <a:srgbClr val="c00000"/>
                </a:solidFill>
                <a:latin typeface="Tahoma"/>
              </a:rPr>
              <a:t>bu  günlerde 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erkes  perişan  durumdayd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daeff"/>
                </a:solidFill>
                <a:latin typeface="Tahoma"/>
              </a:rPr>
              <a:t>SABIRLA İZLEDİĞİNİZ, BİR ŞEYLER ÖĞRENMEK ADINA VERDİĞİNİZ DİKKAT İÇİN TEŞEKKÜRLER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2491920"/>
            <a:ext cx="7543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ahoma"/>
              </a:rPr>
              <a:t>MURAT ÇALIŞI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ahoma"/>
              </a:rPr>
              <a:t>TÜRKÇE ÖĞRETMEN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ahoma"/>
              </a:rPr>
              <a:t>ŞEHİT ALİ GAFFAR OKKAN İ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c000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Özel Ad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İl, ilçe, köy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İ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tanbul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lova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yvalık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önen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ltaniye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öy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ahoma"/>
              </a:rPr>
              <a:t>UYARI:</a:t>
            </a:r>
            <a:r>
              <a:rPr b="1" lang="tr-T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Özel ada dâhil olmayıp tamlama kuran şehir, il, ilçe, belde, köy vb. sözler küçük harfle başlar: </a:t>
            </a: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nya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li, </a:t>
            </a: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timesgut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lçesi, </a:t>
            </a: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zungöl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b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ldesi, </a:t>
            </a:r>
            <a:r>
              <a:rPr b="0" lang="tr-TR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flan </a:t>
            </a:r>
            <a:r>
              <a:rPr b="0" lang="tr-TR" sz="2000" spc="-1" strike="noStrike">
                <a:solidFill>
                  <a:srgbClr val="00b0f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öyü v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Mahalle, meydan, bulvar, cadde, sokak adlarında geçen mahalle, meydan, bulvar, cadde, sokak kelimeleri büyük harfle başlar: 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Halit Rifat Paşa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M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hallesi, Yunus Emre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M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hallesi, Karaköy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M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ydanı, Zafer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M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ydanı, Gazi Mustafa Kemal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lvarı, Ziya Gökalp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lvarı, Nene Hatun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C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ddesi, Cemal Nadir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kağı, İnkılap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kağı v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Kurum, kuruluş adlar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ürk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rumu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rmara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Ü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niversitesi, </a:t>
            </a:r>
            <a:r>
              <a:rPr b="0" lang="tr-TR" sz="20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ızıl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00"/>
                </a:solidFill>
                <a:latin typeface="Tahoma"/>
              </a:rPr>
              <a:t>Yer adlarında ilk isimden sonra gelen ve deniz, nehir, göl, dağ, boğaz vb. adları büyük harfle başlar: 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ğrı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ı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ral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G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ölü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sya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Y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kası, 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Ç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nakkale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oğazı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cle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rmağı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ge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nizi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rciyes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D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ı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F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ırat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hri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üveyş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K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nalı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T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N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hri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V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G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ölü,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igana </a:t>
            </a:r>
            <a:r>
              <a:rPr b="0" lang="tr-TR" sz="2000" spc="-1" strike="noStrike">
                <a:solidFill>
                  <a:srgbClr val="c00000"/>
                </a:solidFill>
                <a:latin typeface="Tahoma"/>
              </a:rPr>
              <a:t>G</a:t>
            </a: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eçidi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c000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Unvanlar, saygı sözcükleri, takma ad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vukat Has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tor Emel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nı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sap Niyazi,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kkal Ahmet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sm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vuş, Selve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mş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Hayr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ze, İlha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ca, Fahriye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UYAR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cc"/>
                </a:solidFill>
                <a:latin typeface="Tahoma"/>
              </a:rPr>
              <a:t>Akrabalık ilişkilerinde sıfatlar küçük harfle baş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arın Ayşe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yzeme gideceğ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nur, Kemal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yısını çok sever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i’nin Halil </a:t>
            </a:r>
            <a:r>
              <a:rPr b="0" lang="tr-TR" sz="2400" spc="-1" strike="noStrike">
                <a:solidFill>
                  <a:srgbClr val="c000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cası bize hep şeker ver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Gün, ay adları bir tarihe bağlıysa büyük harfle baş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7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lül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1974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rşem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yıs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30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sım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z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Her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ylül buralara gelir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Önümüzdeki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sanın ilk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ması buluşacağı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DİKKAT: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Tabela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levha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 ve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levha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niteliğindeki yazılarda geçen kelimeler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üyük harfle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başlar: 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iriş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Ç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ıkış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dür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zne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şkan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tor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tobüs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rağı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lmuş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rağı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hirler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rası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elefon, 3.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t, 4.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ınıf, 1.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ok v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(ya da hepsi büyük olur: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ECZANE, MARKET, BERBER …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Yön adları başta olursa büyük, sonda olursa küçük harfle ba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zey Afrik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frika’nı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zey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tı Karadeniz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         Karadeniz’i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tıs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neydoğu Anadolu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nadolu’nu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üneydoğu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zeybatı Amerika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         Amerika’nın </a:t>
            </a:r>
            <a:r>
              <a:rPr b="0" lang="tr-TR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uzeybatıs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Tahoma"/>
              </a:rPr>
              <a:t>ANCA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Düşünce, hayat tarzı, politika vb. anlamlar bildirdiğinde   doğu ve batı sözlerinin ilk harfleri büyük yazılır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tı medeniyeti,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ğu mistisizmi v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ahoma"/>
              </a:rPr>
              <a:t>Bu sözler yön bildirdiğinde küçük yazılır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Bursa’nın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ğusu, Ankara’nın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tısı v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125000"/>
            <a:ext cx="871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Tahoma"/>
              </a:rPr>
              <a:t>Tarihi olay, çağ,devir  ve dönem adları  büyük harfle başlar: </a:t>
            </a:r>
            <a:br>
              <a:rPr sz="2600"/>
            </a:b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ilâlı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aş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evri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rta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Ç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ağ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urtuluş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avaşı, 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slahat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önemi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illî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ücadele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ale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evri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ahiliye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önemi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illî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debiyat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0daeff"/>
                </a:solidFill>
                <a:latin typeface="Tahoma"/>
              </a:rPr>
              <a:t>önemi v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r-TR" sz="2600" spc="-1" strike="noStrike">
                <a:solidFill>
                  <a:srgbClr val="ffff00"/>
                </a:solidFill>
                <a:latin typeface="Tahoma"/>
              </a:rPr>
              <a:t>Ulusal, resmî ve dinî bayramlarla anma ve kutlama günlerinin adları büyük harfle başlar: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umhuriyet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U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lusal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gemenlik </a:t>
            </a:r>
            <a:r>
              <a:rPr b="0" lang="tr-TR" sz="26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Ç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ocuk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19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ıs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tatürk’ü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nma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ençlik ve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por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mazan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urban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evruz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iraç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ndili; 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nneler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ünü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Ö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ğretmenler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ünü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ünya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iyatro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ünü, 14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rt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ıp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ayramı, </a:t>
            </a:r>
            <a:r>
              <a:rPr b="0" lang="tr-TR" sz="2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tr-TR" sz="2600" spc="-1" strike="noStrike">
                <a:solidFill>
                  <a:srgbClr val="ffffff"/>
                </a:solidFill>
                <a:latin typeface="Tahoma"/>
              </a:rPr>
              <a:t>ıdırellez v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3300"/>
                </a:solidFill>
                <a:latin typeface="Century Gothic"/>
              </a:rPr>
              <a:t>BÜYÜK HARFLERİN KULLANIM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Saray, köşk, kale, köprü, anıt vb. yapı adlarının bütün kelimeleri büyük harfle başlar: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opkapı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aray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okat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alesi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Ç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ankaya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öşkü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ız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Tahoma"/>
              </a:rPr>
              <a:t>ulesi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olmabahçe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rayı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orozlu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n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nkara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lesi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lata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öprüsü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tih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ultan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ehmet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öprüsü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ostar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öprüsü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eyazıt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ulesi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fer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bidesi,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ilge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tr-TR" sz="2800" spc="-1" strike="noStrike">
                <a:solidFill>
                  <a:srgbClr val="005ce7"/>
                </a:solidFill>
                <a:latin typeface="Arial"/>
                <a:ea typeface="Arial"/>
              </a:rPr>
              <a:t>ağan Anıt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Özel adlardan türetilen bütün kelimeler büyük harf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Tahoma"/>
              </a:rPr>
              <a:t>başlar: 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ürklük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ürkleşmek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ürkçü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ürkçülük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ürkçe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vrupal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vrupalılaşmak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syalılık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onyalı,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tr-TR" sz="2800" spc="-1" strike="noStrike">
                <a:solidFill>
                  <a:srgbClr val="00b0f0"/>
                </a:solidFill>
                <a:latin typeface="Tahoma"/>
              </a:rPr>
              <a:t>ursalı v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9:10:37Z</dcterms:created>
  <dc:creator>şehit ali gaffar okkan</dc:creator>
  <dc:description/>
  <cp:keywords>murat çalısır</cp:keywords>
  <dc:language>en-US</dc:language>
  <cp:lastModifiedBy>Casper</cp:lastModifiedBy>
  <dcterms:modified xsi:type="dcterms:W3CDTF">2020-12-29T11:24:16Z</dcterms:modified>
  <cp:revision>90</cp:revision>
  <dc:subject>YAZIM KURALLARI</dc:subject>
  <dc:title>türkçe</dc:title>
</cp:coreProperties>
</file>